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ECB-5BD3-4DDA-BCBC-F3B5FA67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1D5-4C23-4594-A380-FD76991C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8E1-A999-4583-A8A5-0DD629E8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8A7-D09E-4325-9C52-DEE71551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9C5-9943-4327-9196-27F1670E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537-2229-4D32-8693-8CADE6E5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DCB-6E70-4233-925D-BCB56ECB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FB4-D5F1-4FD8-A5C6-8B03B5ED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890-7D9E-4FFA-9862-DBE505E9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44F-00C2-4B4B-B6AA-69444119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E4B-BBEB-4519-8BEE-22965C5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CF5-5E9E-4883-961A-88B4F97F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35C1-D984-4E96-9D0D-9D79D5CF80D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EN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9240" y="12859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00160" y="2000160"/>
            <a:ext cx="8800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τοτε ἐαν τις ὑμιν εἰπῃ∙ Ἰδε ὡδε ὁ Χριστος, Ἰδε ἐκει, μη πιστευε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προελθων μικρον ἐπιπτεν ἐπι της γης και προσηυχετο ἱνα εἰ δυνατον ἐστιν παρελθῃ ἀπ’ αὐτου ἡ ὡ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ριθη Ἰησους∙ Ἀμην ἀμην λεγω σοι, ἐαν μη τις γεννηθῃ ἐξ ὑδατος και πνευματος, οὐ δυναται εἰσελθειν εἰς την βασιλεια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τα ταυτα εὑρισκει αὐτον ὁ Ἰησους ἐν τῳ ἱερῳ και εἰπεν αὐτῳ∙ Ἰδε ὑγιη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ell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εγονας. μηκετι ἁμαρτανε, ἱνα μη χειρον σοι τι γενη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2840" y="1185840"/>
            <a:ext cx="9301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γαρ πατηρ φιλει τον υἱον και παντα δεικνυσιν αὐτῳ ἃ αὐτος ποιει, και μειζονα τουτων δειξει αὐτῳ ἐργα, ἱνα ὑμεις θαυμαζητε.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ω δε ἐχω την μαρτυριαν μειζονα του Ἰωαννου∙ τα γαρ ἐργα ἃ δεδωκεν μοι ὁ πατηρ ἱνα τελειωσω αὐτα, αὐτα τα ἐργα ἃ ποιω μαρτυρει περι ἐμου ὁτι ὁ πατηρ με ἀπεσταλκ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θαυμαζον ἐπι τῃ διδαχῃ αὐτου ἐτι μαλλον∙ ἠν γαρ διδασκων αὐτους ὡς ἐξουσιαν ἐχων και οὐχ ὡς οἱ γραμματ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γενομενου σαββατου ἠρξατο διδασκειν ἐν τῃ συναγωγῃ, και πολλοι ἀκουοντες ἐθαυμασαν λεγοντες∙ Ποθεν τουτῳ ταυτα, και τίς ἡ σοφια, και αἱ δυναμεις τοιαυται δια των χειρων αὐτου γινομεν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42920" y="154296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t us remember the shepherd of our sou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the son makes you free, you will be truly 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]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as teaching [use periphrastic] them about love for the least of the brothers and for all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l I crucify again the one who washed me from sin? May it never be!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17160" y="12859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00160" y="2000160"/>
            <a:ext cx="8800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σαν δε τινες των γραμματεων ἐκει καθημενοι και λογιζομενοι ἐν ταις καρδιαι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 ἐγω μαρτυρω περι ἐμαυτου, ἡ μαρτυρια μου οὐκ ἐστιν ἀληθ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ω εἰμι ὁ ποιμην ὁ καλος και εὐ γινωσκω τα ἐμα και γινωσκει με τα ἐμ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θεασαμεθα την δοξαν αὐτου και μιμνῃσκομεθα μαλιστα του κυριου της δοξης νιπτοντος τους ποδας ἡμ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42840" y="1185840"/>
            <a:ext cx="9101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η ἐγερθησεται ἐν τῃ κρισει μετα των ἀνδρων της γενεας ταυτης και κατακρινεῖ [κατα + κρινω =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I condemn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ους, ὁτι ἠλθεν ἀκουσαι την σοφιαν του βασιλεως, και ἰδου πλειον του βασιλεως ὡδ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ενετο δε ἐν τῳ βαπτισθηναι ἁπαντα τον λαον και Ἰησου βαπτισθεντος και προσευχομενου ἀνεῳχθηνα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ρχεται το τριτον και λεγει αὐτοις∙ Καθευδετε το λοιπ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ἠλθεν ἡ ὡρα, ἰδου παραδιδοται ὁ υἱος του ἀνθρωπου εἰς τας χειρας των ἁμαρτωλ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 οὐν προσφερῃς τι ἐπι το θυσιαστηριον και μνησθῃς ἐκει ὁτι ὁ ἀδελφος σου ἐχει τι κατα σου, ὑμοστρεφε εὐθυς προς αὐτον και ἐρωτα εἰρη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42920" y="154296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we live, it is better to live well and to love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 shepherds had arrived, they saw the sleeping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ho has given you all things in Christ, will he not also give you his lo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 a beautiful and very wise w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85840" y="1397160"/>
            <a:ext cx="85723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 Corinthians 13.1-3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ὰν ταῖς γλώσσαις τῶν ἀνθρώπων λαλῶ καὶ τῶν ἀγγέλων, ἀγάπην δὲ μὴ ἔχω, γέγονα χαλκὸ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ras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χῶν [ἠχε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e nois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ἢ κύμβαλο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ymbal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αλάζον [ἀλαλαζ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la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.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ὰν ἔχω προφητεία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ophec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εἰδῶ τὰ μυστήρια πάντα καὶ πᾶσαν τὴν γνῶσιν καὶ ἐὰν ἔχω πᾶσαν τὴν πίστιν ὥστε ὄρη μεθιστάναι [μεθιστημι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remove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], ἀγάπην δὲ μὴ ἔχω, οὐθέν [= οὐδεν] εἰμι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ἂν ψωμίσ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eed, give awa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άντα τὰ ὑπάρχοντά μου καὶ ἐὰν παραδῶ τὸ σῶμά μου ἵνα καυχήσωμαι, ἀγάπην δὲ μὴ ἔχω, οὐδὲν ὠφελοῦμαι [ὠφελε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ain, profit, benefi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9:05:18Z</dcterms:created>
  <dc:creator>Sarah</dc:creator>
  <dc:description/>
  <dc:language>en-US</dc:language>
  <cp:lastModifiedBy>Sarah</cp:lastModifiedBy>
  <dcterms:modified xsi:type="dcterms:W3CDTF">2009-03-02T20:55:11Z</dcterms:modified>
  <cp:revision>13</cp:revision>
  <dc:subject/>
  <dc:title>Slide 1</dc:title>
</cp:coreProperties>
</file>